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C3187-5F50-4CA2-B8EC-7F1EBBE16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3518F-57D4-4191-A8BB-E55F00D73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F56D2-893C-4D25-9D46-05EF95E0D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734DB-45F4-4AC9-99E6-0A5E90084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F873E-AE0E-4DE5-8E86-638EB50A9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1C4AC-2A4C-4453-AD80-E5E4C3754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49B4B-1BEE-4D64-997F-9424A70B4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D1BA7-55B0-4352-94AC-4BE1E409F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37B9C-D31B-431C-AA59-E1C11C218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64234-3C56-4AA9-8F63-B02A02E8F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B98E0-D605-4B90-AF11-5C3E25923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3D67E-DA4D-43FF-A929-492BDF013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7EBC-530F-409E-A982-3200B5A6BC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819520" y="1219320"/>
            <a:ext cx="34574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esiunea iunie - iulie</a:t>
            </a:r>
            <a:endParaRPr b="0" lang="en-US" sz="2400" spc="1" strike="noStrike">
              <a:ln w="9360">
                <a:solidFill>
                  <a:srgbClr val="000000"/>
                </a:solidFill>
                <a:miter/>
              </a:ln>
              <a:solidFill>
                <a:srgbClr val="ffffff"/>
              </a:solidFill>
              <a:latin typeface="Arial Black"/>
              <a:ea typeface="Arial Black"/>
            </a:endParaRPr>
          </a:p>
        </p:txBody>
      </p:sp>
    </p:spTree>
  </p:cSld>
  <p:transition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ff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advTm="5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advTm="5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s7a3</cp:lastModifiedBy>
  <dcterms:modified xsi:type="dcterms:W3CDTF">2012-06-10T05:14:43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